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2C7-0B2D-42B6-BB6F-FD169ECB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AB0-3134-4024-9FBF-C7D9794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E4E-0E92-4016-B9B1-0D584358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C36-9E54-4483-A31C-C0F122C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BAD-CD07-4F43-8315-8B0B807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F15-7663-40A4-A932-96F40E93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774-E95B-4DA9-859F-1F3A34AD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6AC-6ACA-405B-80AD-2DDA208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026-8FFB-4942-83BC-36C0391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AFE-0CEA-4827-989F-BF78D34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83B-4AB2-4CEF-A7D2-FD51C46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19C-7DC7-418F-92BF-98692185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5B10-ED16-45D8-AE45-9252BFFA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etermine the point of view from which a story is told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1080" y="2203560"/>
            <a:ext cx="39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What do you see in this pic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Quiet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your Reading Response Journal, answer the following question.</a:t>
            </a:r>
            <a:br>
              <a:rPr sz="4000"/>
            </a:b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rom which point of view do you think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Treasure of Lemon Brow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is told from AND why would the author choose to write from this point of vie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use AT LEAST two pieces of text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nouns do you see in the pie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know the thoughts and feelings of BOTH characters or just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he point of view from which an author presents a story so import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two people tell a story in the sa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s pick different characters and ideas to empha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Person 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-person Point of 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tory told by one of th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nouns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ecause the story is told from just one character’s point of view, the reader is limited to knowing ONLY what the character knows, thinks, and fe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6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Person 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Person Point of View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d by NARRATOR that is NOT in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such as she, he, and they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62320"/>
            <a:ext cx="54100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skerville Old Face"/>
              </a:rPr>
              <a:t>Third Person LIMITED Omniscient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-Narrator relates to the thoughts and feelings of just ONE charac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72000" y="2362320"/>
            <a:ext cx="36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Person POV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rd Person Omnisc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Narrator relates to thoughts and feelings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POV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was nervous because he cheated on his test.  He thought to himself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ould I be so stupid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Kim, his teacher, was very angry with Sean.  She knew he was an intelligent kid.  She wondered what she would say to Sean and how she would punis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each station, read the excerpt and work with your group members to discuss the questions that correspond with each piece of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from the bag of characters and a strip of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tory using all of the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rom the point-of-view you were assig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rainst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nflict going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 in which the characters attempt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-of-View (picked from b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s you want your readers to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1:27:26Z</dcterms:created>
  <dc:creator>Administrator</dc:creator>
  <dc:description/>
  <dc:language>en-US</dc:language>
  <cp:lastModifiedBy>Administrator</cp:lastModifiedBy>
  <dcterms:modified xsi:type="dcterms:W3CDTF">2010-12-09T13:59:29Z</dcterms:modified>
  <cp:revision>18</cp:revision>
  <dc:subject/>
  <dc:title>Point of View  Do Now</dc:title>
</cp:coreProperties>
</file>